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2541-84DC-462F-B348-2D79D15AB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F4BF-B761-4401-8C2E-C33B9A410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BE8C-AEC8-47C4-BA1A-F17D63228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1EB8-FA82-4EAA-BBA4-ABE9DDA1F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0BC7-7FC3-4720-93C5-8AB09C699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A18B-2D07-40C2-93AC-C9F085683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B46F-6B20-45F5-BCDB-C24E7A417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C441-51FD-4AFF-B5AE-94E572263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23FD-9BE7-430B-A97F-2AD23C3E4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880E-43B3-4A62-9BCD-73BA2F1D6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C7D8-63B1-4EDD-9C93-65417D52D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C6FE-1FBD-42E4-B46A-C71459DFD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6353-E00E-4798-8E9E-8E10639F2ABA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tanford University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ctober 31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01960"/>
            <a:ext cx="0" cy="203400"/>
          </a:xfrm>
          <a:prstGeom prst="line">
            <a:avLst/>
          </a:prstGeom>
          <a:ln w="1908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15880" y="1359000"/>
            <a:ext cx="6363000" cy="41367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4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58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dit.unitn.it/~p2p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1495440"/>
            <a:ext cx="6119640" cy="341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9040" y="3628800"/>
            <a:ext cx="62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3320" y="5657760"/>
            <a:ext cx="238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tanford University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ctober 31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8560" y="3917160"/>
            <a:ext cx="5910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Paper with Fausto Giunchi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46040" y="4556520"/>
            <a:ext cx="662148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8484"/>
                </a:solidFill>
                <a:latin typeface="Arial"/>
              </a:rPr>
              <a:t>Research group (alphabetically ordered)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8484"/>
                </a:solidFill>
                <a:latin typeface="Arial"/>
              </a:rPr>
              <a:t>Fausto Giunchiglia, Pavel Shvaiko, Mikalai Yatskevich, Ilya Zaihraye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18344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DCBF-4860-483F-95A3-731BA2CEBA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09200" y="1707840"/>
            <a:ext cx="7759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er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t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t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the form of a coefficient, which measures the similarity between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given nodes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: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efficien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[0,1]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i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= &lt;m</a:t>
            </a:r>
            <a:r>
              <a:rPr b="1" lang="en-GB" sz="2000" spc="-1" strike="noStrike" baseline="-25000">
                <a:solidFill>
                  <a:srgbClr val="808080"/>
                </a:solidFill>
                <a:latin typeface="Arial"/>
                <a:ea typeface="Times New Roman"/>
              </a:rPr>
              <a:t>21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telephone, phone,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0.7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&gt;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32E3-FD38-4C17-97DD-96CA4F1865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The State of the Ar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5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upid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…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is a hybrid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matching prototype.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 It exploits linguistic and structural schema matching heuristics, and computes similarity coefficients between nodes of the trees.</a:t>
            </a:r>
            <a:r>
              <a:rPr b="1" lang="ru-RU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imilarity Flood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is a hybrid matching prototype. It uses fix-point computation to determine correspondences between nodes of the graph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OMA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is a composite matching prototype. It provides an extensible library of different matchers which manipulate DAGs and supports various ways of combining final result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s far as we know, so fa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nly syntactic matching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C6FD-F476-4153-B39D-20BB98F7A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18344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7EBD-2A54-42CA-9A43-2ED191E121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9560" y="143208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er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ncep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i-th node of the first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ncep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j-th node of the second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the form of a semantic relation between the extensions of concepts at the given nod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Possible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’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ity {=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ping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smatch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general/specific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: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&lt;m</a:t>
            </a:r>
            <a:r>
              <a:rPr b="1" lang="en-GB" sz="2000" spc="-1" strike="noStrike" baseline="-25000">
                <a:solidFill>
                  <a:srgbClr val="777777"/>
                </a:solidFill>
                <a:latin typeface="Arial"/>
                <a:ea typeface="Times New Roman"/>
              </a:rPr>
              <a:t>21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telephone, phone,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{=}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gt;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91A9-6634-4244-9A4C-D24381C5D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s: Analysis of Ancestors. Case 1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5520" y="1996920"/>
            <a:ext cx="569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9600" y="3860640"/>
            <a:ext cx="7472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uppose that we want to match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7520" y="1731960"/>
            <a:ext cx="613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63840" y="1362240"/>
          <a:ext cx="5607000" cy="269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3840" y="1362240"/>
                    <a:ext cx="56070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4097160" y="1755720"/>
            <a:ext cx="1636920" cy="1236600"/>
            <a:chOff x="4097160" y="1755720"/>
            <a:chExt cx="1636920" cy="1236600"/>
          </a:xfrm>
        </p:grpSpPr>
        <p:sp>
          <p:nvSpPr>
            <p:cNvPr id="190" name=""/>
            <p:cNvSpPr/>
            <p:nvPr/>
          </p:nvSpPr>
          <p:spPr>
            <a:xfrm>
              <a:off x="4097160" y="2649600"/>
              <a:ext cx="37800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56080" y="1755720"/>
              <a:ext cx="378000" cy="34308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473120" y="4241880"/>
            <a:ext cx="70740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upid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does not find a similarity coefficient between the nodes under consideration, due to the significant differences in structure of the given graphs</a:t>
            </a:r>
            <a:r>
              <a:rPr b="1" i="1" lang="en-GB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match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denoted by the label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ile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us,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8FA3-50C9-44D2-B3BA-A80E0C42F4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s: Analysis of Ancestors. Case 2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25520" y="1996920"/>
            <a:ext cx="569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2360" y="4091040"/>
            <a:ext cx="7037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uppose that we want to match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76320" y="1515960"/>
            <a:ext cx="573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506600"/>
          <a:ext cx="539244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06600"/>
                    <a:ext cx="539244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22360" y="4457880"/>
            <a:ext cx="70358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upid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= 0,86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 This is because of the identity of labels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GB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match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; while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ince we have that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and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then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175280" y="2760840"/>
            <a:ext cx="2544480" cy="1211040"/>
            <a:chOff x="4175280" y="2760840"/>
            <a:chExt cx="2544480" cy="1211040"/>
          </a:xfrm>
        </p:grpSpPr>
        <p:sp>
          <p:nvSpPr>
            <p:cNvPr id="201" name=""/>
            <p:cNvSpPr/>
            <p:nvPr/>
          </p:nvSpPr>
          <p:spPr>
            <a:xfrm>
              <a:off x="4175280" y="2760840"/>
              <a:ext cx="37764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42120" y="3629160"/>
              <a:ext cx="37764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3522-241C-4C41-A292-BAF24154D7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18344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IMPLEMENT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B63D-3FBF-4D45-B8D7-362DD342E0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n Implementati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28720" y="1755720"/>
            <a:ext cx="6934320" cy="2044080"/>
            <a:chOff x="1728720" y="1755720"/>
            <a:chExt cx="6934320" cy="2044080"/>
          </a:xfrm>
        </p:grpSpPr>
        <p:sp>
          <p:nvSpPr>
            <p:cNvPr id="207" name=""/>
            <p:cNvSpPr/>
            <p:nvPr/>
          </p:nvSpPr>
          <p:spPr>
            <a:xfrm>
              <a:off x="4991040" y="217476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4680" y="1755720"/>
              <a:ext cx="32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2040" y="3195720"/>
              <a:ext cx="16956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29360" y="319248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3520" y="33400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Structure -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28720" y="3328920"/>
              <a:ext cx="26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lement -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87440" y="2343240"/>
              <a:ext cx="1818000" cy="83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7200" y="234324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699000" y="438300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ak Semantic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92520" y="5283360"/>
            <a:ext cx="29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ong Semantic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78000" y="3813120"/>
            <a:ext cx="725400" cy="1863720"/>
            <a:chOff x="3078000" y="3813120"/>
            <a:chExt cx="725400" cy="1863720"/>
          </a:xfrm>
        </p:grpSpPr>
        <p:sp>
          <p:nvSpPr>
            <p:cNvPr id="218" name=""/>
            <p:cNvSpPr/>
            <p:nvPr/>
          </p:nvSpPr>
          <p:spPr>
            <a:xfrm>
              <a:off x="3081240" y="3813120"/>
              <a:ext cx="0" cy="186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1240" y="4738680"/>
              <a:ext cx="72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8000" y="5661000"/>
              <a:ext cx="72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5F71-680B-4F4D-9DDE-0B9F47EDB7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lement-level 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60" y="1792440"/>
            <a:ext cx="70833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61640" indent="-1616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ak Semantics Techniqu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strings {=} 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phone, telephon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data types {=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string, integer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nteger, re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soundex {=}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F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Ph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6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trong Semantics Technique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Precompiled thesauru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yn key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Discount, Rebat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WordNet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rt_#1, Humanities_#1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, where #1 … sense number 1 of the word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Art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according to WordNet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BF05-F4E0-4C85-9892-986F16D2ED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8080" y="1801440"/>
            <a:ext cx="766908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yntac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On Implementing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04C1-5F84-49F2-83DA-703E17ACBE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lement-level Semantic Matching (cont.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6440" y="1757160"/>
            <a:ext cx="79484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emantic Relations via WordNe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ity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equal to another if there is at least one sense of the first concept, which is a synonym of the secon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p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overlapped with the other if there are some senses in comm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tch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wo concepts are mismatched if they have no sense in comm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general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more general then the other iff there exists at least one sense of the first concept that has a sense of the other as a hyponym or meronym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general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less general than the other iff there exists at least one sense of the first concept that has a sense of the other concept as hypernym or as a holonym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F489-A538-4837-B3E0-A98107AE4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tructure-level 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11200" y="1951200"/>
            <a:ext cx="720432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translate the matching problem, namely the two graphs (in particular, the pair of nodes submitted to matching) into a propositional formula and then check for its validity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check for validity using SA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3236-B2EA-4209-B5E1-73C5B19D5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0640" y="1290240"/>
            <a:ext cx="7131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xtract the two graph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ute element-level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nstruct the propositional formula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Run S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erform itera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C190-7105-4483-B743-BAEA120CB2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1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3962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tract the two graph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127240" y="2373480"/>
          <a:ext cx="5607000" cy="269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240" y="2373480"/>
                    <a:ext cx="56070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467000" y="4761000"/>
            <a:ext cx="74563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 the case of RDB, XML and OODB schemas, it is necessary to extract useful semantic information, for instance in the form of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A449-B488-4615-BFFA-3F0B0F9CFD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2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182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1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ment-level semantic matching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or each node, compute semantic relations holding among all the concepts denoted by labels at nodes under consideration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37000" y="2624040"/>
          <a:ext cx="5607000" cy="269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7000" y="2624040"/>
                    <a:ext cx="560700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1506600" y="2590920"/>
            <a:ext cx="7270560" cy="2361960"/>
            <a:chOff x="1506600" y="2590920"/>
            <a:chExt cx="7270560" cy="2361960"/>
          </a:xfrm>
        </p:grpSpPr>
        <p:sp>
          <p:nvSpPr>
            <p:cNvPr id="239" name=""/>
            <p:cNvSpPr/>
            <p:nvPr/>
          </p:nvSpPr>
          <p:spPr>
            <a:xfrm>
              <a:off x="1506600" y="4510080"/>
              <a:ext cx="15541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47680" indent="-247680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A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A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99000" y="2590920"/>
              <a:ext cx="3278160" cy="1333440"/>
            </a:xfrm>
            <a:custGeom>
              <a:avLst/>
              <a:gdLst/>
              <a:ahLst/>
              <a:rect l="l" t="t" r="r" b="b"/>
              <a:pathLst>
                <a:path w="2065" h="840">
                  <a:moveTo>
                    <a:pt x="0" y="312"/>
                  </a:moveTo>
                  <a:cubicBezTo>
                    <a:pt x="105" y="280"/>
                    <a:pt x="417" y="171"/>
                    <a:pt x="632" y="120"/>
                  </a:cubicBezTo>
                  <a:cubicBezTo>
                    <a:pt x="847" y="69"/>
                    <a:pt x="1091" y="16"/>
                    <a:pt x="1288" y="8"/>
                  </a:cubicBezTo>
                  <a:cubicBezTo>
                    <a:pt x="1485" y="0"/>
                    <a:pt x="1687" y="11"/>
                    <a:pt x="1816" y="72"/>
                  </a:cubicBezTo>
                  <a:cubicBezTo>
                    <a:pt x="1945" y="133"/>
                    <a:pt x="2063" y="248"/>
                    <a:pt x="2064" y="376"/>
                  </a:cubicBezTo>
                  <a:cubicBezTo>
                    <a:pt x="2065" y="504"/>
                    <a:pt x="1874" y="743"/>
                    <a:pt x="1824" y="84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511280" y="4140360"/>
            <a:ext cx="6807240" cy="1320480"/>
            <a:chOff x="1511280" y="4140360"/>
            <a:chExt cx="6807240" cy="1320480"/>
          </a:xfrm>
        </p:grpSpPr>
        <p:sp>
          <p:nvSpPr>
            <p:cNvPr id="242" name=""/>
            <p:cNvSpPr/>
            <p:nvPr/>
          </p:nvSpPr>
          <p:spPr>
            <a:xfrm>
              <a:off x="4280040" y="4140360"/>
              <a:ext cx="4038480" cy="1320480"/>
            </a:xfrm>
            <a:custGeom>
              <a:avLst/>
              <a:gdLst/>
              <a:ahLst/>
              <a:rect l="l" t="t" r="r" b="b"/>
              <a:pathLst>
                <a:path w="2544" h="832">
                  <a:moveTo>
                    <a:pt x="0" y="0"/>
                  </a:moveTo>
                  <a:cubicBezTo>
                    <a:pt x="46" y="165"/>
                    <a:pt x="125" y="327"/>
                    <a:pt x="272" y="448"/>
                  </a:cubicBezTo>
                  <a:cubicBezTo>
                    <a:pt x="419" y="569"/>
                    <a:pt x="623" y="669"/>
                    <a:pt x="880" y="728"/>
                  </a:cubicBezTo>
                  <a:cubicBezTo>
                    <a:pt x="1137" y="787"/>
                    <a:pt x="1539" y="832"/>
                    <a:pt x="1816" y="800"/>
                  </a:cubicBezTo>
                  <a:cubicBezTo>
                    <a:pt x="2093" y="768"/>
                    <a:pt x="2392" y="591"/>
                    <a:pt x="2544" y="53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1280" y="4876920"/>
              <a:ext cx="14860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B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B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523880" y="2997360"/>
            <a:ext cx="5854680" cy="2713680"/>
            <a:chOff x="1523880" y="2997360"/>
            <a:chExt cx="5854680" cy="2713680"/>
          </a:xfrm>
        </p:grpSpPr>
        <p:sp>
          <p:nvSpPr>
            <p:cNvPr id="245" name=""/>
            <p:cNvSpPr/>
            <p:nvPr/>
          </p:nvSpPr>
          <p:spPr>
            <a:xfrm>
              <a:off x="1523880" y="5257800"/>
              <a:ext cx="161316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GB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0800" y="2997360"/>
              <a:ext cx="977760" cy="1015920"/>
            </a:xfrm>
            <a:custGeom>
              <a:avLst/>
              <a:gdLst/>
              <a:ahLst/>
              <a:rect l="l" t="t" r="r" b="b"/>
              <a:pathLst>
                <a:path w="616" h="640">
                  <a:moveTo>
                    <a:pt x="0" y="640"/>
                  </a:moveTo>
                  <a:cubicBezTo>
                    <a:pt x="54" y="570"/>
                    <a:pt x="108" y="501"/>
                    <a:pt x="136" y="432"/>
                  </a:cubicBezTo>
                  <a:cubicBezTo>
                    <a:pt x="164" y="363"/>
                    <a:pt x="88" y="296"/>
                    <a:pt x="168" y="224"/>
                  </a:cubicBezTo>
                  <a:cubicBezTo>
                    <a:pt x="248" y="152"/>
                    <a:pt x="536" y="37"/>
                    <a:pt x="616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23880" y="4457880"/>
            <a:ext cx="5537160" cy="1634040"/>
            <a:chOff x="1523880" y="4457880"/>
            <a:chExt cx="5537160" cy="1634040"/>
          </a:xfrm>
        </p:grpSpPr>
        <p:sp>
          <p:nvSpPr>
            <p:cNvPr id="248" name=""/>
            <p:cNvSpPr/>
            <p:nvPr/>
          </p:nvSpPr>
          <p:spPr>
            <a:xfrm>
              <a:off x="1523880" y="5638680"/>
              <a:ext cx="20196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D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D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9200" y="4457880"/>
              <a:ext cx="2031840" cy="395280"/>
            </a:xfrm>
            <a:custGeom>
              <a:avLst/>
              <a:gdLst/>
              <a:ahLst/>
              <a:rect l="l" t="t" r="r" b="b"/>
              <a:pathLst>
                <a:path w="1280" h="249">
                  <a:moveTo>
                    <a:pt x="0" y="8"/>
                  </a:moveTo>
                  <a:cubicBezTo>
                    <a:pt x="201" y="128"/>
                    <a:pt x="403" y="249"/>
                    <a:pt x="616" y="248"/>
                  </a:cubicBezTo>
                  <a:cubicBezTo>
                    <a:pt x="829" y="247"/>
                    <a:pt x="1054" y="123"/>
                    <a:pt x="1280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4470480"/>
            <a:ext cx="6210360" cy="2002680"/>
            <a:chOff x="1523880" y="4470480"/>
            <a:chExt cx="6210360" cy="2002680"/>
          </a:xfrm>
        </p:grpSpPr>
        <p:sp>
          <p:nvSpPr>
            <p:cNvPr id="251" name=""/>
            <p:cNvSpPr/>
            <p:nvPr/>
          </p:nvSpPr>
          <p:spPr>
            <a:xfrm>
              <a:off x="1523880" y="6019920"/>
              <a:ext cx="19051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E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E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9440" y="4470480"/>
              <a:ext cx="2044800" cy="411120"/>
            </a:xfrm>
            <a:custGeom>
              <a:avLst/>
              <a:gdLst/>
              <a:ahLst/>
              <a:rect l="l" t="t" r="r" b="b"/>
              <a:pathLst>
                <a:path w="1288" h="259">
                  <a:moveTo>
                    <a:pt x="0" y="16"/>
                  </a:moveTo>
                  <a:cubicBezTo>
                    <a:pt x="296" y="137"/>
                    <a:pt x="593" y="259"/>
                    <a:pt x="808" y="256"/>
                  </a:cubicBezTo>
                  <a:cubicBezTo>
                    <a:pt x="1023" y="253"/>
                    <a:pt x="1155" y="126"/>
                    <a:pt x="1288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35C2-038E-4F98-AB5C-A500B8ADEC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3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787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4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mpute concepts at node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uppose, we want to find a semantic relation between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5</a:t>
            </a:r>
            <a:r>
              <a:rPr b="1" i="1" lang="en-US" sz="2000" spc="-1" strike="noStrike" baseline="-25000">
                <a:solidFill>
                  <a:srgbClr val="777777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1</a:t>
            </a:r>
            <a:r>
              <a:rPr b="1" i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43160" y="2371680"/>
            <a:ext cx="5607000" cy="2690640"/>
            <a:chOff x="2243160" y="2371680"/>
            <a:chExt cx="5607000" cy="2690640"/>
          </a:xfrm>
        </p:grpSpPr>
        <p:graphicFrame>
          <p:nvGraphicFramePr>
            <p:cNvPr id="256" name=""/>
            <p:cNvGraphicFramePr/>
            <p:nvPr/>
          </p:nvGraphicFramePr>
          <p:xfrm>
            <a:off x="2243160" y="2371680"/>
            <a:ext cx="5607000" cy="269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43160" y="2371680"/>
                      <a:ext cx="5607000" cy="26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8" name=""/>
            <p:cNvGrpSpPr/>
            <p:nvPr/>
          </p:nvGrpSpPr>
          <p:grpSpPr>
            <a:xfrm>
              <a:off x="4800600" y="2641680"/>
              <a:ext cx="1575000" cy="1350720"/>
              <a:chOff x="4800600" y="2641680"/>
              <a:chExt cx="1575000" cy="1350720"/>
            </a:xfrm>
          </p:grpSpPr>
          <p:sp>
            <p:nvSpPr>
              <p:cNvPr id="259" name=""/>
              <p:cNvSpPr/>
              <p:nvPr/>
            </p:nvSpPr>
            <p:spPr>
              <a:xfrm>
                <a:off x="6086520" y="2778120"/>
                <a:ext cx="289080" cy="295200"/>
              </a:xfrm>
              <a:prstGeom prst="donut">
                <a:avLst>
                  <a:gd name="adj" fmla="val 29717"/>
                </a:avLst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800600" y="2641680"/>
                <a:ext cx="1257480" cy="1350720"/>
                <a:chOff x="4800600" y="2641680"/>
                <a:chExt cx="1257480" cy="1350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800600" y="3659040"/>
                  <a:ext cx="335160" cy="333360"/>
                </a:xfrm>
                <a:prstGeom prst="donut">
                  <a:avLst>
                    <a:gd name="adj" fmla="val 29597"/>
                  </a:avLst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5021280" y="2641680"/>
                  <a:ext cx="1036800" cy="977760"/>
                  <a:chOff x="5021280" y="2641680"/>
                  <a:chExt cx="1036800" cy="9777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021280" y="2959200"/>
                    <a:ext cx="103680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3" h="456">
                        <a:moveTo>
                          <a:pt x="13" y="456"/>
                        </a:moveTo>
                        <a:cubicBezTo>
                          <a:pt x="6" y="354"/>
                          <a:pt x="0" y="252"/>
                          <a:pt x="93" y="176"/>
                        </a:cubicBezTo>
                        <a:cubicBezTo>
                          <a:pt x="186" y="100"/>
                          <a:pt x="493" y="31"/>
                          <a:pt x="57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800000"/>
                    </a:solidFill>
                    <a:round/>
                    <a:headEnd len="lg" type="stealth" w="sm"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194440" y="2641680"/>
                    <a:ext cx="469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800000"/>
                        </a:solidFill>
                        <a:latin typeface="Arial"/>
                      </a:rPr>
                      <a:t>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5" name=""/>
          <p:cNvSpPr/>
          <p:nvPr/>
        </p:nvSpPr>
        <p:spPr>
          <a:xfrm>
            <a:off x="1506600" y="4581360"/>
            <a:ext cx="28242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0466-8B35-49BB-8221-EF2DED0E7F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4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787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struct the propositional formula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We translate all the semantic relations computed in step 2 into propositional formulas under the following rules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440" y="2684520"/>
            <a:ext cx="33429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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=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(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76840" y="2549520"/>
            <a:ext cx="4405320" cy="2063520"/>
            <a:chOff x="4776840" y="2549520"/>
            <a:chExt cx="4405320" cy="2063520"/>
          </a:xfrm>
        </p:grpSpPr>
        <p:graphicFrame>
          <p:nvGraphicFramePr>
            <p:cNvPr id="270" name=""/>
            <p:cNvGraphicFramePr/>
            <p:nvPr/>
          </p:nvGraphicFramePr>
          <p:xfrm>
            <a:off x="4776840" y="2549520"/>
            <a:ext cx="4405320" cy="2063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76840" y="2549520"/>
                      <a:ext cx="4405320" cy="20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6800760" y="3565440"/>
              <a:ext cx="219240" cy="209520"/>
            </a:xfrm>
            <a:prstGeom prst="donut">
              <a:avLst>
                <a:gd name="adj" fmla="val 29708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6160" y="2869920"/>
              <a:ext cx="219240" cy="209520"/>
            </a:xfrm>
            <a:prstGeom prst="donut">
              <a:avLst>
                <a:gd name="adj" fmla="val 29708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96240" y="2989080"/>
              <a:ext cx="766800" cy="581040"/>
            </a:xfrm>
            <a:custGeom>
              <a:avLst/>
              <a:gdLst/>
              <a:ahLst/>
              <a:rect l="l" t="t" r="r" b="b"/>
              <a:pathLst>
                <a:path w="483" h="366">
                  <a:moveTo>
                    <a:pt x="0" y="366"/>
                  </a:moveTo>
                  <a:cubicBezTo>
                    <a:pt x="48" y="324"/>
                    <a:pt x="97" y="283"/>
                    <a:pt x="120" y="243"/>
                  </a:cubicBezTo>
                  <a:cubicBezTo>
                    <a:pt x="143" y="203"/>
                    <a:pt x="75" y="166"/>
                    <a:pt x="135" y="126"/>
                  </a:cubicBezTo>
                  <a:cubicBezTo>
                    <a:pt x="195" y="86"/>
                    <a:pt x="425" y="21"/>
                    <a:pt x="483" y="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20080" y="2855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436760" y="3940200"/>
            <a:ext cx="66722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rom step 2 we have: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want to prove that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( we guess relation between nodes at this s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8D22-C581-4044-BE47-9132C05FC6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5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11200" y="1382400"/>
            <a:ext cx="70963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un SA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 order to prove that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valid, we prove that its negation is unsatisfiabile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AT returns FALSE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us,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9360" y="3990960"/>
            <a:ext cx="6913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F380-0ADB-48EF-9E60-7081F97275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pid vs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371600" y="1403280"/>
            <a:ext cx="7675560" cy="4926600"/>
            <a:chOff x="1371600" y="1403280"/>
            <a:chExt cx="7675560" cy="4926600"/>
          </a:xfrm>
        </p:grpSpPr>
        <p:grpSp>
          <p:nvGrpSpPr>
            <p:cNvPr id="282" name=""/>
            <p:cNvGrpSpPr/>
            <p:nvPr/>
          </p:nvGrpSpPr>
          <p:grpSpPr>
            <a:xfrm>
              <a:off x="1371600" y="1417680"/>
              <a:ext cx="3392280" cy="4583520"/>
              <a:chOff x="1371600" y="1417680"/>
              <a:chExt cx="3392280" cy="45835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371600" y="1887480"/>
                <a:ext cx="3392280" cy="4113720"/>
                <a:chOff x="1371600" y="1887480"/>
                <a:chExt cx="3392280" cy="4113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412720" y="1887480"/>
                  <a:ext cx="89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r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690640" y="3528720"/>
                  <a:ext cx="207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Organiz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69920" y="2649240"/>
                  <a:ext cx="1754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rt Histo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7" name=""/>
                <p:cNvCxnSpPr>
                  <a:stCxn id="284" idx="2"/>
                  <a:endCxn id="286" idx="0"/>
                </p:cNvCxnSpPr>
                <p:nvPr/>
              </p:nvCxnSpPr>
              <p:spPr>
                <a:xfrm>
                  <a:off x="2860200" y="2284200"/>
                  <a:ext cx="888120" cy="3657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8" name=""/>
                <p:cNvCxnSpPr>
                  <a:stCxn id="286" idx="2"/>
                  <a:endCxn id="285" idx="0"/>
                </p:cNvCxnSpPr>
                <p:nvPr/>
              </p:nvCxnSpPr>
              <p:spPr>
                <a:xfrm flipH="1">
                  <a:off x="3727080" y="3046320"/>
                  <a:ext cx="20880" cy="4831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89" name=""/>
                <p:cNvSpPr/>
                <p:nvPr/>
              </p:nvSpPr>
              <p:spPr>
                <a:xfrm>
                  <a:off x="1466640" y="3030480"/>
                  <a:ext cx="103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Musi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0" name=""/>
                <p:cNvCxnSpPr>
                  <a:stCxn id="284" idx="2"/>
                  <a:endCxn id="289" idx="0"/>
                </p:cNvCxnSpPr>
                <p:nvPr/>
              </p:nvCxnSpPr>
              <p:spPr>
                <a:xfrm flipH="1">
                  <a:off x="1981800" y="2283840"/>
                  <a:ext cx="878760" cy="7470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91" name=""/>
                <p:cNvSpPr/>
                <p:nvPr/>
              </p:nvSpPr>
              <p:spPr>
                <a:xfrm>
                  <a:off x="1371600" y="5602320"/>
                  <a:ext cx="1292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Baroq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07960" y="4335480"/>
                  <a:ext cx="12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Histo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3" name=""/>
                <p:cNvCxnSpPr>
                  <a:stCxn id="292" idx="2"/>
                  <a:endCxn id="291" idx="0"/>
                </p:cNvCxnSpPr>
                <p:nvPr/>
              </p:nvCxnSpPr>
              <p:spPr>
                <a:xfrm>
                  <a:off x="2010960" y="4731840"/>
                  <a:ext cx="6840" cy="870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94" name=""/>
                <p:cNvCxnSpPr>
                  <a:stCxn id="289" idx="2"/>
                </p:cNvCxnSpPr>
                <p:nvPr/>
              </p:nvCxnSpPr>
              <p:spPr>
                <a:xfrm flipH="1">
                  <a:off x="1966320" y="3426840"/>
                  <a:ext cx="16560" cy="9090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95" name=""/>
              <p:cNvSpPr/>
              <p:nvPr/>
            </p:nvSpPr>
            <p:spPr>
              <a:xfrm>
                <a:off x="1876320" y="1417680"/>
                <a:ext cx="23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484"/>
                    </a:solidFill>
                    <a:latin typeface="Arial"/>
                  </a:rPr>
                  <a:t>www.google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010120" y="1403280"/>
              <a:ext cx="4037040" cy="4926600"/>
              <a:chOff x="5010120" y="1403280"/>
              <a:chExt cx="4037040" cy="4926600"/>
            </a:xfrm>
          </p:grpSpPr>
          <p:sp>
            <p:nvSpPr>
              <p:cNvPr id="297" name=""/>
              <p:cNvSpPr/>
              <p:nvPr/>
            </p:nvSpPr>
            <p:spPr>
              <a:xfrm>
                <a:off x="5010120" y="3525840"/>
                <a:ext cx="195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rganizat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96160" y="186228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s&amp;Human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59520" y="2624040"/>
                <a:ext cx="17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 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0" name=""/>
              <p:cNvCxnSpPr>
                <a:stCxn id="298" idx="2"/>
                <a:endCxn id="299" idx="0"/>
              </p:cNvCxnSpPr>
              <p:nvPr/>
            </p:nvCxnSpPr>
            <p:spPr>
              <a:xfrm flipH="1">
                <a:off x="6041880" y="2259000"/>
                <a:ext cx="1242000" cy="36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"/>
              <p:cNvCxnSpPr>
                <a:stCxn id="299" idx="2"/>
                <a:endCxn id="297" idx="0"/>
              </p:cNvCxnSpPr>
              <p:nvPr/>
            </p:nvCxnSpPr>
            <p:spPr>
              <a:xfrm flipH="1">
                <a:off x="5989320" y="3021120"/>
                <a:ext cx="53280" cy="505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"/>
              <p:cNvCxnSpPr>
                <a:stCxn id="298" idx="2"/>
              </p:cNvCxnSpPr>
              <p:nvPr/>
            </p:nvCxnSpPr>
            <p:spPr>
              <a:xfrm>
                <a:off x="7283520" y="2259000"/>
                <a:ext cx="1037520" cy="7452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3" name=""/>
              <p:cNvSpPr/>
              <p:nvPr/>
            </p:nvSpPr>
            <p:spPr>
              <a:xfrm>
                <a:off x="6113520" y="1403280"/>
                <a:ext cx="201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484"/>
                    </a:solidFill>
                    <a:latin typeface="Arial"/>
                  </a:rPr>
                  <a:t>www.yahoo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67760" y="3063960"/>
                <a:ext cx="167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Design A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5360" y="5931000"/>
                <a:ext cx="139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Bar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67680" y="3916440"/>
                <a:ext cx="177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chitec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7" name=""/>
              <p:cNvCxnSpPr>
                <a:stCxn id="306" idx="2"/>
                <a:endCxn id="308" idx="0"/>
              </p:cNvCxnSpPr>
              <p:nvPr/>
            </p:nvCxnSpPr>
            <p:spPr>
              <a:xfrm>
                <a:off x="8158320" y="4312800"/>
                <a:ext cx="10080" cy="63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"/>
              <p:cNvCxnSpPr>
                <a:stCxn id="304" idx="2"/>
              </p:cNvCxnSpPr>
              <p:nvPr/>
            </p:nvCxnSpPr>
            <p:spPr>
              <a:xfrm>
                <a:off x="8204400" y="3460680"/>
                <a:ext cx="8640" cy="456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7581960" y="4943520"/>
                <a:ext cx="117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308" idx="2"/>
              </p:cNvCxnSpPr>
              <p:nvPr/>
            </p:nvCxnSpPr>
            <p:spPr>
              <a:xfrm>
                <a:off x="8167320" y="5340240"/>
                <a:ext cx="10440" cy="63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11" name=""/>
          <p:cNvGrpSpPr/>
          <p:nvPr/>
        </p:nvGrpSpPr>
        <p:grpSpPr>
          <a:xfrm>
            <a:off x="2563920" y="3921120"/>
            <a:ext cx="4989240" cy="2584440"/>
            <a:chOff x="2563920" y="3921120"/>
            <a:chExt cx="4989240" cy="2584440"/>
          </a:xfrm>
        </p:grpSpPr>
        <p:sp>
          <p:nvSpPr>
            <p:cNvPr id="312" name=""/>
            <p:cNvSpPr/>
            <p:nvPr/>
          </p:nvSpPr>
          <p:spPr>
            <a:xfrm>
              <a:off x="2563920" y="5869080"/>
              <a:ext cx="4989240" cy="636480"/>
            </a:xfrm>
            <a:custGeom>
              <a:avLst/>
              <a:gdLst/>
              <a:ahLst/>
              <a:rect l="l" t="t" r="r" b="b"/>
              <a:pathLst>
                <a:path w="3195" h="401">
                  <a:moveTo>
                    <a:pt x="0" y="0"/>
                  </a:moveTo>
                  <a:cubicBezTo>
                    <a:pt x="206" y="61"/>
                    <a:pt x="710" y="333"/>
                    <a:pt x="1242" y="367"/>
                  </a:cubicBezTo>
                  <a:cubicBezTo>
                    <a:pt x="1774" y="401"/>
                    <a:pt x="2788" y="236"/>
                    <a:pt x="3195" y="20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8760" y="3921120"/>
              <a:ext cx="2327400" cy="30168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0" y="15"/>
                  </a:moveTo>
                  <a:cubicBezTo>
                    <a:pt x="116" y="44"/>
                    <a:pt x="452" y="190"/>
                    <a:pt x="696" y="187"/>
                  </a:cubicBezTo>
                  <a:cubicBezTo>
                    <a:pt x="940" y="184"/>
                    <a:pt x="1306" y="39"/>
                    <a:pt x="146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367000" y="1479600"/>
            <a:ext cx="5256000" cy="4578480"/>
            <a:chOff x="2367000" y="1479600"/>
            <a:chExt cx="5256000" cy="4578480"/>
          </a:xfrm>
        </p:grpSpPr>
        <p:grpSp>
          <p:nvGrpSpPr>
            <p:cNvPr id="315" name=""/>
            <p:cNvGrpSpPr/>
            <p:nvPr/>
          </p:nvGrpSpPr>
          <p:grpSpPr>
            <a:xfrm>
              <a:off x="2600280" y="5156280"/>
              <a:ext cx="4927680" cy="890640"/>
              <a:chOff x="2600280" y="5156280"/>
              <a:chExt cx="4927680" cy="890640"/>
            </a:xfrm>
          </p:grpSpPr>
          <p:sp>
            <p:nvSpPr>
              <p:cNvPr id="316" name=""/>
              <p:cNvSpPr/>
              <p:nvPr/>
            </p:nvSpPr>
            <p:spPr>
              <a:xfrm>
                <a:off x="2600280" y="5522760"/>
                <a:ext cx="4927680" cy="524160"/>
              </a:xfrm>
              <a:custGeom>
                <a:avLst/>
                <a:gdLst/>
                <a:ahLst/>
                <a:rect l="l" t="t" r="r" b="b"/>
                <a:pathLst>
                  <a:path w="3104" h="330">
                    <a:moveTo>
                      <a:pt x="0" y="143"/>
                    </a:moveTo>
                    <a:cubicBezTo>
                      <a:pt x="239" y="125"/>
                      <a:pt x="919" y="0"/>
                      <a:pt x="1436" y="31"/>
                    </a:cubicBezTo>
                    <a:cubicBezTo>
                      <a:pt x="1953" y="62"/>
                      <a:pt x="2757" y="268"/>
                      <a:pt x="3104" y="330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99120" y="5156280"/>
                <a:ext cx="85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811680" y="3016440"/>
              <a:ext cx="2136600" cy="620640"/>
              <a:chOff x="3811680" y="3016440"/>
              <a:chExt cx="2136600" cy="62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3811680" y="3368520"/>
                <a:ext cx="2136600" cy="268560"/>
              </a:xfrm>
              <a:custGeom>
                <a:avLst/>
                <a:gdLst/>
                <a:ahLst/>
                <a:rect l="l" t="t" r="r" b="b"/>
                <a:pathLst>
                  <a:path w="1346" h="169">
                    <a:moveTo>
                      <a:pt x="0" y="146"/>
                    </a:moveTo>
                    <a:cubicBezTo>
                      <a:pt x="112" y="122"/>
                      <a:pt x="449" y="0"/>
                      <a:pt x="673" y="4"/>
                    </a:cubicBezTo>
                    <a:cubicBezTo>
                      <a:pt x="897" y="8"/>
                      <a:pt x="1206" y="135"/>
                      <a:pt x="1346" y="16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51400" y="301644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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367000" y="2982960"/>
              <a:ext cx="5256000" cy="2197080"/>
              <a:chOff x="2367000" y="2982960"/>
              <a:chExt cx="5256000" cy="219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2367000" y="2982960"/>
                <a:ext cx="5256000" cy="2197080"/>
              </a:xfrm>
              <a:custGeom>
                <a:avLst/>
                <a:gdLst/>
                <a:ahLst/>
                <a:rect l="l" t="t" r="r" b="b"/>
                <a:pathLst>
                  <a:path w="3311" h="1384">
                    <a:moveTo>
                      <a:pt x="401" y="0"/>
                    </a:moveTo>
                    <a:cubicBezTo>
                      <a:pt x="351" y="109"/>
                      <a:pt x="0" y="458"/>
                      <a:pt x="102" y="651"/>
                    </a:cubicBezTo>
                    <a:cubicBezTo>
                      <a:pt x="204" y="844"/>
                      <a:pt x="480" y="1038"/>
                      <a:pt x="1015" y="1160"/>
                    </a:cubicBezTo>
                    <a:cubicBezTo>
                      <a:pt x="1550" y="1282"/>
                      <a:pt x="2833" y="1337"/>
                      <a:pt x="3311" y="1384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94080" y="4559400"/>
                <a:ext cx="89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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811680" y="2063880"/>
              <a:ext cx="2136600" cy="620640"/>
              <a:chOff x="3811680" y="2063880"/>
              <a:chExt cx="2136600" cy="620640"/>
            </a:xfrm>
          </p:grpSpPr>
          <p:sp>
            <p:nvSpPr>
              <p:cNvPr id="325" name=""/>
              <p:cNvSpPr/>
              <p:nvPr/>
            </p:nvSpPr>
            <p:spPr>
              <a:xfrm>
                <a:off x="3811680" y="2415960"/>
                <a:ext cx="2136600" cy="268560"/>
              </a:xfrm>
              <a:custGeom>
                <a:avLst/>
                <a:gdLst/>
                <a:ahLst/>
                <a:rect l="l" t="t" r="r" b="b"/>
                <a:pathLst>
                  <a:path w="1346" h="169">
                    <a:moveTo>
                      <a:pt x="0" y="146"/>
                    </a:moveTo>
                    <a:cubicBezTo>
                      <a:pt x="112" y="122"/>
                      <a:pt x="449" y="0"/>
                      <a:pt x="673" y="4"/>
                    </a:cubicBezTo>
                    <a:cubicBezTo>
                      <a:pt x="897" y="8"/>
                      <a:pt x="1206" y="135"/>
                      <a:pt x="1346" y="16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51400" y="206388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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727360" y="2933640"/>
              <a:ext cx="4481640" cy="3124440"/>
            </a:xfrm>
            <a:custGeom>
              <a:avLst/>
              <a:gdLst/>
              <a:ahLst/>
              <a:rect l="l" t="t" r="r" b="b"/>
              <a:pathLst>
                <a:path w="2823" h="1968">
                  <a:moveTo>
                    <a:pt x="0" y="1840"/>
                  </a:moveTo>
                  <a:cubicBezTo>
                    <a:pt x="260" y="1853"/>
                    <a:pt x="1157" y="1968"/>
                    <a:pt x="1560" y="1920"/>
                  </a:cubicBezTo>
                  <a:cubicBezTo>
                    <a:pt x="1963" y="1872"/>
                    <a:pt x="2208" y="1747"/>
                    <a:pt x="2416" y="1552"/>
                  </a:cubicBezTo>
                  <a:cubicBezTo>
                    <a:pt x="2624" y="1357"/>
                    <a:pt x="2793" y="1011"/>
                    <a:pt x="2808" y="752"/>
                  </a:cubicBezTo>
                  <a:cubicBezTo>
                    <a:pt x="2823" y="493"/>
                    <a:pt x="2567" y="157"/>
                    <a:pt x="2504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75400" y="43941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{</a:t>
              </a:r>
              <a:r>
                <a:rPr b="0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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76640" y="1827360"/>
              <a:ext cx="2816280" cy="272880"/>
            </a:xfrm>
            <a:custGeom>
              <a:avLst/>
              <a:gdLst/>
              <a:ahLst/>
              <a:rect l="l" t="t" r="r" b="b"/>
              <a:pathLst>
                <a:path w="1346" h="169">
                  <a:moveTo>
                    <a:pt x="0" y="146"/>
                  </a:moveTo>
                  <a:cubicBezTo>
                    <a:pt x="112" y="122"/>
                    <a:pt x="449" y="0"/>
                    <a:pt x="673" y="4"/>
                  </a:cubicBezTo>
                  <a:cubicBezTo>
                    <a:pt x="897" y="8"/>
                    <a:pt x="1206" y="135"/>
                    <a:pt x="1346" y="169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1080" y="1479600"/>
              <a:ext cx="6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{</a:t>
              </a:r>
              <a:r>
                <a:rPr b="0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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D92E-06DE-4CD3-82F2-5547493C21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made a rational reconstruction of the major matching problems and articulated them in terms of the more generic problem of matching graphs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identified semantic matching as a new approach for performing generic matching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proposed an implementation of semantic matching using SAT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A9F6-D376-4039-9622-C0CC9722AF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18344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C95E-D551-4C62-9F68-2890488E73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tend to a full graph matc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How to extract semantics from schema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tudy how to take into account attributes and instanc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evelop an efficient implementation of the syste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o a thorough testing of the syste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6305-3D56-4DEF-9593-8895CAB034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6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ject website: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p2p/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P.Shvaiko “Semantic Matching”. Technical Report #DIT-03-013. Also to appear in The Knowledge Engineering Review journal. Short version in proceedings of Semantic Integration workshop at ISWC’03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I. Zaihrayeu “Making peer databases interact – a vision for an architecture supporting data coordination”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</a:rPr>
              <a:t>In Proc. Of the Conference of Information Agent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(CIA 2002), Madrid, 2002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6C96-9BC4-45E6-94B8-A23D0FD14C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Application Domai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7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Generic Model Managemen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chema integrati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ata warehous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Data Coordination in P2P systems, Semantic Web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C39A-30DE-4ABA-B3C1-4BA908FC8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484"/>
                </a:solidFill>
                <a:latin typeface="Arial"/>
              </a:rPr>
              <a:t>Example of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36680" y="1557360"/>
            <a:ext cx="3392280" cy="4583520"/>
            <a:chOff x="1336680" y="1557360"/>
            <a:chExt cx="3392280" cy="4583520"/>
          </a:xfrm>
        </p:grpSpPr>
        <p:grpSp>
          <p:nvGrpSpPr>
            <p:cNvPr id="111" name=""/>
            <p:cNvGrpSpPr/>
            <p:nvPr/>
          </p:nvGrpSpPr>
          <p:grpSpPr>
            <a:xfrm>
              <a:off x="1336680" y="2027160"/>
              <a:ext cx="3392280" cy="4113720"/>
              <a:chOff x="1336680" y="2027160"/>
              <a:chExt cx="3392280" cy="411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377800" y="2027160"/>
                <a:ext cx="89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55720" y="3668400"/>
                <a:ext cx="20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rganiz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35000" y="2788920"/>
                <a:ext cx="175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 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stCxn id="112" idx="2"/>
                <a:endCxn id="114" idx="0"/>
              </p:cNvCxnSpPr>
              <p:nvPr/>
            </p:nvCxnSpPr>
            <p:spPr>
              <a:xfrm>
                <a:off x="2825280" y="2423880"/>
                <a:ext cx="888120" cy="36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6" name=""/>
              <p:cNvCxnSpPr>
                <a:stCxn id="114" idx="2"/>
                <a:endCxn id="113" idx="0"/>
              </p:cNvCxnSpPr>
              <p:nvPr/>
            </p:nvCxnSpPr>
            <p:spPr>
              <a:xfrm flipH="1">
                <a:off x="3692160" y="3186000"/>
                <a:ext cx="20880" cy="483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7" name=""/>
              <p:cNvSpPr/>
              <p:nvPr/>
            </p:nvSpPr>
            <p:spPr>
              <a:xfrm>
                <a:off x="1431720" y="3170160"/>
                <a:ext cx="103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Mus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" name=""/>
              <p:cNvCxnSpPr>
                <a:stCxn id="112" idx="2"/>
                <a:endCxn id="117" idx="0"/>
              </p:cNvCxnSpPr>
              <p:nvPr/>
            </p:nvCxnSpPr>
            <p:spPr>
              <a:xfrm flipH="1">
                <a:off x="1946880" y="2423520"/>
                <a:ext cx="878760" cy="747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1336680" y="5742000"/>
                <a:ext cx="129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Bar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73040" y="447516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20" idx="2"/>
                <a:endCxn id="119" idx="0"/>
              </p:cNvCxnSpPr>
              <p:nvPr/>
            </p:nvCxnSpPr>
            <p:spPr>
              <a:xfrm>
                <a:off x="1976040" y="4871520"/>
                <a:ext cx="6840" cy="870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"/>
              <p:cNvCxnSpPr>
                <a:stCxn id="117" idx="2"/>
              </p:cNvCxnSpPr>
              <p:nvPr/>
            </p:nvCxnSpPr>
            <p:spPr>
              <a:xfrm flipH="1">
                <a:off x="1931400" y="3566520"/>
                <a:ext cx="16560" cy="909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3" name=""/>
            <p:cNvSpPr/>
            <p:nvPr/>
          </p:nvSpPr>
          <p:spPr>
            <a:xfrm>
              <a:off x="1841400" y="1557360"/>
              <a:ext cx="23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www.googl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75200" y="1542960"/>
            <a:ext cx="4037040" cy="4926600"/>
            <a:chOff x="4975200" y="1542960"/>
            <a:chExt cx="4037040" cy="4926600"/>
          </a:xfrm>
        </p:grpSpPr>
        <p:sp>
          <p:nvSpPr>
            <p:cNvPr id="125" name=""/>
            <p:cNvSpPr/>
            <p:nvPr/>
          </p:nvSpPr>
          <p:spPr>
            <a:xfrm>
              <a:off x="4975200" y="366552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Organiz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61240" y="20019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ts&amp;Human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4600" y="2763720"/>
              <a:ext cx="17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t 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6" idx="2"/>
              <a:endCxn id="127" idx="0"/>
            </p:cNvCxnSpPr>
            <p:nvPr/>
          </p:nvCxnSpPr>
          <p:spPr>
            <a:xfrm flipH="1">
              <a:off x="6006960" y="2398680"/>
              <a:ext cx="1242000" cy="36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7" idx="2"/>
              <a:endCxn id="125" idx="0"/>
            </p:cNvCxnSpPr>
            <p:nvPr/>
          </p:nvCxnSpPr>
          <p:spPr>
            <a:xfrm flipH="1">
              <a:off x="5954400" y="3160800"/>
              <a:ext cx="53280" cy="505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6" idx="2"/>
            </p:cNvCxnSpPr>
            <p:nvPr/>
          </p:nvCxnSpPr>
          <p:spPr>
            <a:xfrm>
              <a:off x="7248600" y="2398680"/>
              <a:ext cx="1037520" cy="745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6078600" y="1542960"/>
              <a:ext cx="20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32840" y="320364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Design 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0440" y="607068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Baro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2760" y="4056120"/>
              <a:ext cx="177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2"/>
              <a:endCxn id="136" idx="0"/>
            </p:cNvCxnSpPr>
            <p:nvPr/>
          </p:nvCxnSpPr>
          <p:spPr>
            <a:xfrm>
              <a:off x="8123400" y="4452480"/>
              <a:ext cx="1008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2" idx="2"/>
            </p:cNvCxnSpPr>
            <p:nvPr/>
          </p:nvCxnSpPr>
          <p:spPr>
            <a:xfrm>
              <a:off x="8169480" y="3600360"/>
              <a:ext cx="8640" cy="45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7547040" y="5083200"/>
              <a:ext cx="117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6" idx="2"/>
            </p:cNvCxnSpPr>
            <p:nvPr/>
          </p:nvCxnSpPr>
          <p:spPr>
            <a:xfrm>
              <a:off x="8132400" y="5479920"/>
              <a:ext cx="10440" cy="63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529000" y="5996160"/>
            <a:ext cx="4989240" cy="537120"/>
            <a:chOff x="2529000" y="5996160"/>
            <a:chExt cx="4989240" cy="537120"/>
          </a:xfrm>
        </p:grpSpPr>
        <p:sp>
          <p:nvSpPr>
            <p:cNvPr id="140" name=""/>
            <p:cNvSpPr/>
            <p:nvPr/>
          </p:nvSpPr>
          <p:spPr>
            <a:xfrm>
              <a:off x="2529000" y="5996160"/>
              <a:ext cx="4989240" cy="470880"/>
            </a:xfrm>
            <a:custGeom>
              <a:avLst/>
              <a:gdLst/>
              <a:ahLst/>
              <a:rect l="l" t="t" r="r" b="b"/>
              <a:pathLst>
                <a:path w="3195" h="401">
                  <a:moveTo>
                    <a:pt x="0" y="0"/>
                  </a:moveTo>
                  <a:cubicBezTo>
                    <a:pt x="206" y="61"/>
                    <a:pt x="710" y="333"/>
                    <a:pt x="1242" y="367"/>
                  </a:cubicBezTo>
                  <a:cubicBezTo>
                    <a:pt x="1774" y="401"/>
                    <a:pt x="2788" y="236"/>
                    <a:pt x="3195" y="20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35760" y="6127560"/>
              <a:ext cx="911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65360" y="5295960"/>
            <a:ext cx="4927680" cy="890640"/>
            <a:chOff x="2565360" y="5295960"/>
            <a:chExt cx="4927680" cy="890640"/>
          </a:xfrm>
        </p:grpSpPr>
        <p:sp>
          <p:nvSpPr>
            <p:cNvPr id="143" name=""/>
            <p:cNvSpPr/>
            <p:nvPr/>
          </p:nvSpPr>
          <p:spPr>
            <a:xfrm>
              <a:off x="2565360" y="5662440"/>
              <a:ext cx="4927680" cy="524160"/>
            </a:xfrm>
            <a:custGeom>
              <a:avLst/>
              <a:gdLst/>
              <a:ahLst/>
              <a:rect l="l" t="t" r="r" b="b"/>
              <a:pathLst>
                <a:path w="3104" h="330">
                  <a:moveTo>
                    <a:pt x="0" y="143"/>
                  </a:moveTo>
                  <a:cubicBezTo>
                    <a:pt x="239" y="125"/>
                    <a:pt x="919" y="0"/>
                    <a:pt x="1436" y="31"/>
                  </a:cubicBezTo>
                  <a:cubicBezTo>
                    <a:pt x="1953" y="62"/>
                    <a:pt x="2757" y="268"/>
                    <a:pt x="3104" y="33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5295960"/>
              <a:ext cx="855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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33840" y="3938760"/>
            <a:ext cx="2327400" cy="423720"/>
            <a:chOff x="3633840" y="3938760"/>
            <a:chExt cx="2327400" cy="423720"/>
          </a:xfrm>
        </p:grpSpPr>
        <p:sp>
          <p:nvSpPr>
            <p:cNvPr id="146" name=""/>
            <p:cNvSpPr/>
            <p:nvPr/>
          </p:nvSpPr>
          <p:spPr>
            <a:xfrm>
              <a:off x="3633840" y="4060800"/>
              <a:ext cx="2327400" cy="30168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0" y="15"/>
                  </a:moveTo>
                  <a:cubicBezTo>
                    <a:pt x="116" y="44"/>
                    <a:pt x="452" y="190"/>
                    <a:pt x="696" y="187"/>
                  </a:cubicBezTo>
                  <a:cubicBezTo>
                    <a:pt x="940" y="184"/>
                    <a:pt x="1306" y="39"/>
                    <a:pt x="146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3800" y="3938760"/>
              <a:ext cx="91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76760" y="3156120"/>
            <a:ext cx="2136600" cy="680040"/>
            <a:chOff x="3776760" y="3156120"/>
            <a:chExt cx="2136600" cy="680040"/>
          </a:xfrm>
        </p:grpSpPr>
        <p:sp>
          <p:nvSpPr>
            <p:cNvPr id="149" name=""/>
            <p:cNvSpPr/>
            <p:nvPr/>
          </p:nvSpPr>
          <p:spPr>
            <a:xfrm>
              <a:off x="3776760" y="3508200"/>
              <a:ext cx="2136600" cy="268560"/>
            </a:xfrm>
            <a:custGeom>
              <a:avLst/>
              <a:gdLst/>
              <a:ahLst/>
              <a:rect l="l" t="t" r="r" b="b"/>
              <a:pathLst>
                <a:path w="1346" h="169">
                  <a:moveTo>
                    <a:pt x="0" y="146"/>
                  </a:moveTo>
                  <a:cubicBezTo>
                    <a:pt x="112" y="122"/>
                    <a:pt x="449" y="0"/>
                    <a:pt x="673" y="4"/>
                  </a:cubicBezTo>
                  <a:cubicBezTo>
                    <a:pt x="897" y="8"/>
                    <a:pt x="1206" y="135"/>
                    <a:pt x="1346" y="169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6480" y="3156120"/>
              <a:ext cx="8557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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2080" y="3122640"/>
            <a:ext cx="5256000" cy="2197080"/>
            <a:chOff x="2332080" y="3122640"/>
            <a:chExt cx="5256000" cy="2197080"/>
          </a:xfrm>
        </p:grpSpPr>
        <p:sp>
          <p:nvSpPr>
            <p:cNvPr id="152" name=""/>
            <p:cNvSpPr/>
            <p:nvPr/>
          </p:nvSpPr>
          <p:spPr>
            <a:xfrm>
              <a:off x="2332080" y="3122640"/>
              <a:ext cx="5256000" cy="2197080"/>
            </a:xfrm>
            <a:custGeom>
              <a:avLst/>
              <a:gdLst/>
              <a:ahLst/>
              <a:rect l="l" t="t" r="r" b="b"/>
              <a:pathLst>
                <a:path w="3311" h="1384">
                  <a:moveTo>
                    <a:pt x="401" y="0"/>
                  </a:moveTo>
                  <a:cubicBezTo>
                    <a:pt x="351" y="109"/>
                    <a:pt x="0" y="458"/>
                    <a:pt x="102" y="651"/>
                  </a:cubicBezTo>
                  <a:cubicBezTo>
                    <a:pt x="204" y="844"/>
                    <a:pt x="480" y="1038"/>
                    <a:pt x="1015" y="1160"/>
                  </a:cubicBezTo>
                  <a:cubicBezTo>
                    <a:pt x="1550" y="1282"/>
                    <a:pt x="2833" y="1337"/>
                    <a:pt x="3311" y="1384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4699080"/>
              <a:ext cx="892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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6AB8-6DD3-453F-9302-585FA143DC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2600" y="1770120"/>
            <a:ext cx="806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is an operator that takes two graph-like structures (e.g., database schemas or ontologies) and produces a mapping between elements of the two graphs that correspond semantically to each other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9E7D-C67A-4875-B88F-9BE151D6C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9240" y="1380600"/>
            <a:ext cx="790092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484"/>
                </a:solidFill>
                <a:latin typeface="Arial"/>
              </a:rPr>
              <a:t>The problem of matching can be decomposed in two steps: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Extract graphs from the data and conceptual mod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Match the resulting graphs (generic matching)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8904-A877-462D-B57D-9C4C2302A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30520"/>
            <a:ext cx="78566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6480" indent="-1864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4-tuple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gt;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,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given nod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-18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set of mapping element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-1864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process of discovering mappings between two graphs through the application of a matching algorith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5527-EE46-4DA6-80B7-8248E9FE85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440000" y="2139840"/>
            <a:ext cx="7354800" cy="2069280"/>
            <a:chOff x="1440000" y="2139840"/>
            <a:chExt cx="7354800" cy="2069280"/>
          </a:xfrm>
        </p:grpSpPr>
        <p:sp>
          <p:nvSpPr>
            <p:cNvPr id="161" name=""/>
            <p:cNvSpPr/>
            <p:nvPr/>
          </p:nvSpPr>
          <p:spPr>
            <a:xfrm>
              <a:off x="4689720" y="254772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57840" y="2139840"/>
              <a:ext cx="16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0360" y="356832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28040" y="3565440"/>
              <a:ext cx="16992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2200" y="374940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000" y="3725640"/>
              <a:ext cx="31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886120" y="2715840"/>
              <a:ext cx="1818000" cy="83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5880" y="271584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67000" y="4295880"/>
            <a:ext cx="299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4160" y="4281480"/>
            <a:ext cx="357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omputed betwee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concep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 = { =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8420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: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616A-3642-4E9A-BCA7-56D840F5A9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luca</dc:creator>
  <dc:description/>
  <dc:language>en-US</dc:language>
  <cp:lastModifiedBy>server 9</cp:lastModifiedBy>
  <dcterms:modified xsi:type="dcterms:W3CDTF">2003-11-13T21:29:38Z</dcterms:modified>
  <cp:revision>354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1148022</vt:r8>
  </property>
  <property fmtid="{D5CDD505-2E9C-101B-9397-08002B2CF9AE}" pid="3" name="_AuthorEmail">
    <vt:lpwstr>ilya@dit.unitn.it</vt:lpwstr>
  </property>
  <property fmtid="{D5CDD505-2E9C-101B-9397-08002B2CF9AE}" pid="4" name="_AuthorEmailDisplayName">
    <vt:lpwstr>Ilya Zaihrayeu</vt:lpwstr>
  </property>
  <property fmtid="{D5CDD505-2E9C-101B-9397-08002B2CF9AE}" pid="5" name="_EmailSubject">
    <vt:lpwstr>CIA slides</vt:lpwstr>
  </property>
  <property fmtid="{D5CDD505-2E9C-101B-9397-08002B2CF9AE}" pid="6" name="_ReviewingToolsShownOnce">
    <vt:lpwstr/>
  </property>
</Properties>
</file>